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3.wmf" ContentType="image/x-wmf"/>
  <Override PartName="/ppt/media/image12.wmf" ContentType="image/x-wmf"/>
  <Override PartName="/ppt/media/image11.wmf" ContentType="image/x-wmf"/>
  <Override PartName="/ppt/media/CHIMES.WAV" ContentType="audio/x-wav"/>
  <Override PartName="/ppt/media/image6.wmf" ContentType="image/x-wmf"/>
  <Override PartName="/ppt/media/zipby102.wav" ContentType="audio/x-wav"/>
  <Override PartName="/ppt/media/image7.wmf" ContentType="image/x-wmf"/>
  <Override PartName="/ppt/media/caralarmoff.wav" ContentType="audio/x-wav"/>
  <Override PartName="/ppt/media/byipee04.wav" ContentType="audio/x-wav"/>
  <Override PartName="/ppt/media/image1.wmf" ContentType="image/x-wmf"/>
  <Override PartName="/ppt/media/lionroar2.wav" ContentType="audio/x-wav"/>
  <Override PartName="/ppt/media/image2.wmf" ContentType="image/x-wmf"/>
  <Override PartName="/ppt/media/image3.wmf" ContentType="image/x-wmf"/>
  <Override PartName="/ppt/media/bbeeps04.wav" ContentType="audio/x-wav"/>
  <Override PartName="/ppt/media/image4.wmf" ContentType="image/x-wmf"/>
  <Override PartName="/ppt/media/zapbig0g.wav" ContentType="audio/x-wav"/>
  <Override PartName="/ppt/media/image5.wmf" ContentType="image/x-wmf"/>
  <Override PartName="/ppt/media/hzipup01.wav" ContentType="audio/x-wav"/>
  <Override PartName="/ppt/media/GUNSHOT.WAV" ContentType="audio/x-wav"/>
  <Override PartName="/ppt/media/highchime.wav" ContentType="audio/x-wav"/>
  <Override PartName="/ppt/media/WHOOSH.WAV" ContentType="audio/x-wav"/>
  <Override PartName="/ppt/media/jetflyby2.wav" ContentType="audio/x-wav"/>
  <Override PartName="/ppt/media/image10.wmf" ContentType="image/x-wmf"/>
  <Override PartName="/ppt/media/image14.gif" ContentType="image/gif"/>
  <Override PartName="/ppt/media/oldcarhorn.wav" ContentType="audio/x-wav"/>
  <Override PartName="/ppt/media/image15.png" ContentType="image/png"/>
  <Override PartName="/ppt/media/fastsnaps.wav" ContentType="audio/x-wav"/>
  <Override PartName="/ppt/media/fastcar.wav" ContentType="audio/x-wav"/>
  <Override PartName="/ppt/media/partyhorn.wav" ContentType="audio/x-wav"/>
  <Override PartName="/ppt/media/image9.wmf" ContentType="image/x-wmf"/>
  <Override PartName="/ppt/media/image8.wmf" ContentType="image/x-wmf"/>
  <Override PartName="/ppt/media/bserie06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7685-1FC2-4562-9667-77A9DB614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2084-F7CB-46B9-B0A3-0A9B0AB12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7831-9C81-447E-98D0-1F8F50FEB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A840-E856-4687-9D87-416E695BE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8512-9147-484B-89E3-6EAAB161C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2759-B58A-4759-A31F-025B04CD1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26F5-ADBB-4C30-94D7-32E9B52BD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A35C-F371-4981-89B6-7C46A9292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C6A8-7542-476D-8AAA-531939FAC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71AC-66AC-45F0-8B55-8ACF57A2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E410-BD1A-4A24-AA90-DD4A0116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875F-BAC4-4B3F-B0E6-4F6CA5DC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BD37F-EA23-48A1-BEB6-473683D325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audio" Target="../media/WHOOSH.WAV"/><Relationship Id="rId4" Type="http://schemas.openxmlformats.org/officeDocument/2006/relationships/audio" Target="../media/GUNSHOT.WAV"/><Relationship Id="rId5" Type="http://schemas.openxmlformats.org/officeDocument/2006/relationships/audio" Target="../media/CHIMES.WAV"/><Relationship Id="rId6" Type="http://schemas.openxmlformats.org/officeDocument/2006/relationships/audio" Target="../media/zipby102.wav"/><Relationship Id="rId7" Type="http://schemas.openxmlformats.org/officeDocument/2006/relationships/audio" Target="../media/lionroar2.wav"/><Relationship Id="rId8" Type="http://schemas.openxmlformats.org/officeDocument/2006/relationships/audio" Target="../media/bbeeps04.wav"/><Relationship Id="rId9" Type="http://schemas.openxmlformats.org/officeDocument/2006/relationships/audio" Target="../media/lionroar2.wav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audio" Target="../media/highchime.wav"/><Relationship Id="rId12" Type="http://schemas.openxmlformats.org/officeDocument/2006/relationships/audio" Target="../media/highchime.wav"/><Relationship Id="rId13" Type="http://schemas.openxmlformats.org/officeDocument/2006/relationships/audio" Target="../media/highchime.wav"/><Relationship Id="rId14" Type="http://schemas.openxmlformats.org/officeDocument/2006/relationships/audio" Target="../media/highchime.wav"/><Relationship Id="rId15" Type="http://schemas.openxmlformats.org/officeDocument/2006/relationships/audio" Target="../media/highchime.wav"/><Relationship Id="rId16" Type="http://schemas.openxmlformats.org/officeDocument/2006/relationships/audio" Target="../media/highchime.wav"/><Relationship Id="rId17" Type="http://schemas.openxmlformats.org/officeDocument/2006/relationships/audio" Target="../media/bserie06.wav"/><Relationship Id="rId18" Type="http://schemas.openxmlformats.org/officeDocument/2006/relationships/audio" Target="../media/bserie06.wav"/><Relationship Id="rId19" Type="http://schemas.openxmlformats.org/officeDocument/2006/relationships/audio" Target="../media/zipby102.wav"/><Relationship Id="rId20" Type="http://schemas.openxmlformats.org/officeDocument/2006/relationships/audio" Target="../media/zipby102.wav"/><Relationship Id="rId21" Type="http://schemas.openxmlformats.org/officeDocument/2006/relationships/audio" Target="../media/zipby102.wav"/><Relationship Id="rId22" Type="http://schemas.openxmlformats.org/officeDocument/2006/relationships/audio" Target="../media/bserie06.wav"/><Relationship Id="rId23" Type="http://schemas.openxmlformats.org/officeDocument/2006/relationships/audio" Target="../media/zipby102.wav"/><Relationship Id="rId24" Type="http://schemas.openxmlformats.org/officeDocument/2006/relationships/audio" Target="../media/zipby102.wav"/><Relationship Id="rId25" Type="http://schemas.openxmlformats.org/officeDocument/2006/relationships/audio" Target="../media/zipby102.wav"/><Relationship Id="rId26" Type="http://schemas.openxmlformats.org/officeDocument/2006/relationships/audio" Target="../media/bserie06.wav"/><Relationship Id="rId27" Type="http://schemas.openxmlformats.org/officeDocument/2006/relationships/audio" Target="../media/zipby102.wav"/><Relationship Id="rId28" Type="http://schemas.openxmlformats.org/officeDocument/2006/relationships/audio" Target="../media/zipby102.wav"/><Relationship Id="rId29" Type="http://schemas.openxmlformats.org/officeDocument/2006/relationships/audio" Target="../media/bserie06.wav"/><Relationship Id="rId30" Type="http://schemas.openxmlformats.org/officeDocument/2006/relationships/audio" Target="../media/byipee04.wav"/><Relationship Id="rId3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png"/><Relationship Id="rId3" Type="http://schemas.openxmlformats.org/officeDocument/2006/relationships/audio" Target="../media/zapbig0g.wav"/><Relationship Id="rId4" Type="http://schemas.openxmlformats.org/officeDocument/2006/relationships/audio" Target="../media/bserie06.wav"/><Relationship Id="rId5" Type="http://schemas.openxmlformats.org/officeDocument/2006/relationships/audio" Target="../media/hzipup01.wav"/><Relationship Id="rId6" Type="http://schemas.openxmlformats.org/officeDocument/2006/relationships/audio" Target="../media/hzipup01.wav"/><Relationship Id="rId7" Type="http://schemas.openxmlformats.org/officeDocument/2006/relationships/audio" Target="../media/bbeeps04.wav"/><Relationship Id="rId8" Type="http://schemas.openxmlformats.org/officeDocument/2006/relationships/audio" Target="../media/partyhorn.wav"/><Relationship Id="rId9" Type="http://schemas.openxmlformats.org/officeDocument/2006/relationships/audio" Target="../media/partyhorn.wav"/><Relationship Id="rId10" Type="http://schemas.openxmlformats.org/officeDocument/2006/relationships/audio" Target="../media/partyhorn.wav"/><Relationship Id="rId11" Type="http://schemas.openxmlformats.org/officeDocument/2006/relationships/audio" Target="../media/byipee04.wav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audio" Target="../media/caralarmoff.wav"/><Relationship Id="rId14" Type="http://schemas.openxmlformats.org/officeDocument/2006/relationships/audio" Target="../media/jetflyby2.wav"/><Relationship Id="rId15" Type="http://schemas.openxmlformats.org/officeDocument/2006/relationships/audio" Target="../media/oldcarhorn.wav"/><Relationship Id="rId16" Type="http://schemas.openxmlformats.org/officeDocument/2006/relationships/audio" Target="../media/fastsnaps.wav"/><Relationship Id="rId17" Type="http://schemas.openxmlformats.org/officeDocument/2006/relationships/audio" Target="../media/oldcarhorn.wav"/><Relationship Id="rId18" Type="http://schemas.openxmlformats.org/officeDocument/2006/relationships/audio" Target="../media/oldcarhorn.wav"/><Relationship Id="rId19" Type="http://schemas.openxmlformats.org/officeDocument/2006/relationships/audio" Target="../media/zipby102.wav"/><Relationship Id="rId20" Type="http://schemas.openxmlformats.org/officeDocument/2006/relationships/audio" Target="../media/zipby102.wav"/><Relationship Id="rId21" Type="http://schemas.openxmlformats.org/officeDocument/2006/relationships/audio" Target="../media/zipby102.wav"/><Relationship Id="rId22" Type="http://schemas.openxmlformats.org/officeDocument/2006/relationships/audio" Target="../media/oldcarhorn.wav"/><Relationship Id="rId23" Type="http://schemas.openxmlformats.org/officeDocument/2006/relationships/audio" Target="../media/zipby102.wav"/><Relationship Id="rId24" Type="http://schemas.openxmlformats.org/officeDocument/2006/relationships/audio" Target="../media/zipby102.wav"/><Relationship Id="rId25" Type="http://schemas.openxmlformats.org/officeDocument/2006/relationships/audio" Target="../media/oldcarhorn.wav"/><Relationship Id="rId26" Type="http://schemas.openxmlformats.org/officeDocument/2006/relationships/audio" Target="../media/zipby102.wav"/><Relationship Id="rId2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audio" Target="../media/hzipup01.wav"/><Relationship Id="rId8" Type="http://schemas.openxmlformats.org/officeDocument/2006/relationships/audio" Target="../media/zipby102.wav"/><Relationship Id="rId9" Type="http://schemas.openxmlformats.org/officeDocument/2006/relationships/audio" Target="../media/jetflyby2.wav"/><Relationship Id="rId10" Type="http://schemas.openxmlformats.org/officeDocument/2006/relationships/audio" Target="../media/bbeeps04.wav"/><Relationship Id="rId11" Type="http://schemas.openxmlformats.org/officeDocument/2006/relationships/audio" Target="../media/fastcar.wav"/><Relationship Id="rId12" Type="http://schemas.openxmlformats.org/officeDocument/2006/relationships/audio" Target="../media/bserie06.wav"/><Relationship Id="rId13" Type="http://schemas.openxmlformats.org/officeDocument/2006/relationships/audio" Target="../media/bserie06.wav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audio" Target="../media/caralarmoff.wav"/><Relationship Id="rId12" Type="http://schemas.openxmlformats.org/officeDocument/2006/relationships/audio" Target="../media/jetflyby2.wav"/><Relationship Id="rId13" Type="http://schemas.openxmlformats.org/officeDocument/2006/relationships/audio" Target="../media/bserie06.wav"/><Relationship Id="rId14" Type="http://schemas.openxmlformats.org/officeDocument/2006/relationships/audio" Target="../media/bserie06.wav"/><Relationship Id="rId15" Type="http://schemas.openxmlformats.org/officeDocument/2006/relationships/audio" Target="../media/zipby102.wav"/><Relationship Id="rId16" Type="http://schemas.openxmlformats.org/officeDocument/2006/relationships/audio" Target="../media/zipby102.wav"/><Relationship Id="rId17" Type="http://schemas.openxmlformats.org/officeDocument/2006/relationships/audio" Target="../media/zipby102.wav"/><Relationship Id="rId18" Type="http://schemas.openxmlformats.org/officeDocument/2006/relationships/audio" Target="../media/bserie06.wav"/><Relationship Id="rId19" Type="http://schemas.openxmlformats.org/officeDocument/2006/relationships/audio" Target="../media/zipby102.wav"/><Relationship Id="rId20" Type="http://schemas.openxmlformats.org/officeDocument/2006/relationships/audio" Target="../media/zipby102.wav"/><Relationship Id="rId21" Type="http://schemas.openxmlformats.org/officeDocument/2006/relationships/audio" Target="../media/zipby102.wav"/><Relationship Id="rId22" Type="http://schemas.openxmlformats.org/officeDocument/2006/relationships/audio" Target="../media/bserie06.wav"/><Relationship Id="rId23" Type="http://schemas.openxmlformats.org/officeDocument/2006/relationships/audio" Target="../media/zipby102.wav"/><Relationship Id="rId24" Type="http://schemas.openxmlformats.org/officeDocument/2006/relationships/audio" Target="../media/zipby102.wav"/><Relationship Id="rId25" Type="http://schemas.openxmlformats.org/officeDocument/2006/relationships/audio" Target="../media/bserie06.wav"/><Relationship Id="rId26" Type="http://schemas.openxmlformats.org/officeDocument/2006/relationships/audio" Target="../media/zipby102.wav"/><Relationship Id="rId2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ralarmoff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highchime.wav"/><Relationship Id="rId9" Type="http://schemas.openxmlformats.org/officeDocument/2006/relationships/audio" Target="../media/highchime.wav"/><Relationship Id="rId10" Type="http://schemas.openxmlformats.org/officeDocument/2006/relationships/audio" Target="../media/highchime.wav"/><Relationship Id="rId11" Type="http://schemas.openxmlformats.org/officeDocument/2006/relationships/audio" Target="../media/highchime.wav"/><Relationship Id="rId12" Type="http://schemas.openxmlformats.org/officeDocument/2006/relationships/audio" Target="../media/highchime.wav"/><Relationship Id="rId13" Type="http://schemas.openxmlformats.org/officeDocument/2006/relationships/audio" Target="../media/highchime.wav"/><Relationship Id="rId14" Type="http://schemas.openxmlformats.org/officeDocument/2006/relationships/audio" Target="../media/highchime.wav"/><Relationship Id="rId15" Type="http://schemas.openxmlformats.org/officeDocument/2006/relationships/audio" Target="../media/highchime.wav"/><Relationship Id="rId16" Type="http://schemas.openxmlformats.org/officeDocument/2006/relationships/audio" Target="../media/highchime.wav"/><Relationship Id="rId17" Type="http://schemas.openxmlformats.org/officeDocument/2006/relationships/audio" Target="../media/hzipup01.wav"/><Relationship Id="rId18" Type="http://schemas.openxmlformats.org/officeDocument/2006/relationships/audio" Target="../media/hzipup01.wav"/><Relationship Id="rId19" Type="http://schemas.openxmlformats.org/officeDocument/2006/relationships/audio" Target="../media/bbeeps04.wav"/><Relationship Id="rId20" Type="http://schemas.openxmlformats.org/officeDocument/2006/relationships/audio" Target="../media/partyhorn.wav"/><Relationship Id="rId21" Type="http://schemas.openxmlformats.org/officeDocument/2006/relationships/audio" Target="../media/partyhorn.wav"/><Relationship Id="rId22" Type="http://schemas.openxmlformats.org/officeDocument/2006/relationships/audio" Target="../media/partyhorn.wav"/><Relationship Id="rId23" Type="http://schemas.openxmlformats.org/officeDocument/2006/relationships/audio" Target="../media/byipee04.wav"/><Relationship Id="rId2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audio" Target="../media/highchime.wav"/><Relationship Id="rId10" Type="http://schemas.openxmlformats.org/officeDocument/2006/relationships/audio" Target="../media/highchime.wav"/><Relationship Id="rId11" Type="http://schemas.openxmlformats.org/officeDocument/2006/relationships/audio" Target="../media/highchime.wav"/><Relationship Id="rId12" Type="http://schemas.openxmlformats.org/officeDocument/2006/relationships/audio" Target="../media/highchime.wav"/><Relationship Id="rId13" Type="http://schemas.openxmlformats.org/officeDocument/2006/relationships/audio" Target="../media/highchime.wav"/><Relationship Id="rId14" Type="http://schemas.openxmlformats.org/officeDocument/2006/relationships/audio" Target="../media/highchime.wav"/><Relationship Id="rId15" Type="http://schemas.openxmlformats.org/officeDocument/2006/relationships/audio" Target="../media/highchime.wav"/><Relationship Id="rId16" Type="http://schemas.openxmlformats.org/officeDocument/2006/relationships/audio" Target="../media/highchime.wav"/><Relationship Id="rId17" Type="http://schemas.openxmlformats.org/officeDocument/2006/relationships/audio" Target="../media/highchime.wav"/><Relationship Id="rId18" Type="http://schemas.openxmlformats.org/officeDocument/2006/relationships/audio" Target="../media/oldcarhorn.wav"/><Relationship Id="rId19" Type="http://schemas.openxmlformats.org/officeDocument/2006/relationships/audio" Target="../media/oldcarhorn.wav"/><Relationship Id="rId20" Type="http://schemas.openxmlformats.org/officeDocument/2006/relationships/audio" Target="../media/zipby102.wav"/><Relationship Id="rId21" Type="http://schemas.openxmlformats.org/officeDocument/2006/relationships/audio" Target="../media/zipby102.wav"/><Relationship Id="rId22" Type="http://schemas.openxmlformats.org/officeDocument/2006/relationships/audio" Target="../media/zipby102.wav"/><Relationship Id="rId23" Type="http://schemas.openxmlformats.org/officeDocument/2006/relationships/audio" Target="../media/oldcarhorn.wav"/><Relationship Id="rId24" Type="http://schemas.openxmlformats.org/officeDocument/2006/relationships/audio" Target="../media/zipby102.wav"/><Relationship Id="rId25" Type="http://schemas.openxmlformats.org/officeDocument/2006/relationships/audio" Target="../media/zipby102.wav"/><Relationship Id="rId26" Type="http://schemas.openxmlformats.org/officeDocument/2006/relationships/audio" Target="../media/oldcarhorn.wav"/><Relationship Id="rId27" Type="http://schemas.openxmlformats.org/officeDocument/2006/relationships/audio" Target="../media/zipby102.wav"/><Relationship Id="rId2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highchime.wav"/><Relationship Id="rId9" Type="http://schemas.openxmlformats.org/officeDocument/2006/relationships/audio" Target="../media/hzipup01.wav"/><Relationship Id="rId10" Type="http://schemas.openxmlformats.org/officeDocument/2006/relationships/audio" Target="../media/hzipup01.wav"/><Relationship Id="rId11" Type="http://schemas.openxmlformats.org/officeDocument/2006/relationships/audio" Target="../media/bbeeps04.wav"/><Relationship Id="rId12" Type="http://schemas.openxmlformats.org/officeDocument/2006/relationships/audio" Target="../media/partyhorn.wav"/><Relationship Id="rId13" Type="http://schemas.openxmlformats.org/officeDocument/2006/relationships/audio" Target="../media/partyhorn.wav"/><Relationship Id="rId14" Type="http://schemas.openxmlformats.org/officeDocument/2006/relationships/audio" Target="../media/partyhorn.wav"/><Relationship Id="rId15" Type="http://schemas.openxmlformats.org/officeDocument/2006/relationships/audio" Target="../media/byipee04.wav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audio" Target="../media/highchime.wav"/><Relationship Id="rId12" Type="http://schemas.openxmlformats.org/officeDocument/2006/relationships/audio" Target="../media/highchime.wav"/><Relationship Id="rId13" Type="http://schemas.openxmlformats.org/officeDocument/2006/relationships/audio" Target="../media/highchime.wav"/><Relationship Id="rId14" Type="http://schemas.openxmlformats.org/officeDocument/2006/relationships/audio" Target="../media/highchime.wav"/><Relationship Id="rId15" Type="http://schemas.openxmlformats.org/officeDocument/2006/relationships/audio" Target="../media/highchime.wav"/><Relationship Id="rId16" Type="http://schemas.openxmlformats.org/officeDocument/2006/relationships/audio" Target="../media/bserie06.wav"/><Relationship Id="rId17" Type="http://schemas.openxmlformats.org/officeDocument/2006/relationships/audio" Target="../media/bserie06.wav"/><Relationship Id="rId18" Type="http://schemas.openxmlformats.org/officeDocument/2006/relationships/audio" Target="../media/zipby102.wav"/><Relationship Id="rId19" Type="http://schemas.openxmlformats.org/officeDocument/2006/relationships/audio" Target="../media/zipby102.wav"/><Relationship Id="rId20" Type="http://schemas.openxmlformats.org/officeDocument/2006/relationships/audio" Target="../media/zipby102.wav"/><Relationship Id="rId21" Type="http://schemas.openxmlformats.org/officeDocument/2006/relationships/audio" Target="../media/bserie06.wav"/><Relationship Id="rId22" Type="http://schemas.openxmlformats.org/officeDocument/2006/relationships/audio" Target="../media/zipby102.wav"/><Relationship Id="rId23" Type="http://schemas.openxmlformats.org/officeDocument/2006/relationships/audio" Target="../media/zipby102.wav"/><Relationship Id="rId24" Type="http://schemas.openxmlformats.org/officeDocument/2006/relationships/audio" Target="../media/zipby102.wav"/><Relationship Id="rId25" Type="http://schemas.openxmlformats.org/officeDocument/2006/relationships/audio" Target="../media/bserie06.wav"/><Relationship Id="rId26" Type="http://schemas.openxmlformats.org/officeDocument/2006/relationships/audio" Target="../media/zipby102.wav"/><Relationship Id="rId27" Type="http://schemas.openxmlformats.org/officeDocument/2006/relationships/audio" Target="../media/zipby102.wav"/><Relationship Id="rId28" Type="http://schemas.openxmlformats.org/officeDocument/2006/relationships/audio" Target="../media/bserie06.wav"/><Relationship Id="rId29" Type="http://schemas.openxmlformats.org/officeDocument/2006/relationships/audio" Target="../media/byipee04.wav"/><Relationship Id="rId3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audio" Target="../media/highchime.wav"/><Relationship Id="rId12" Type="http://schemas.openxmlformats.org/officeDocument/2006/relationships/audio" Target="../media/highchime.wav"/><Relationship Id="rId13" Type="http://schemas.openxmlformats.org/officeDocument/2006/relationships/audio" Target="../media/highchime.wav"/><Relationship Id="rId14" Type="http://schemas.openxmlformats.org/officeDocument/2006/relationships/audio" Target="../media/highchime.wav"/><Relationship Id="rId15" Type="http://schemas.openxmlformats.org/officeDocument/2006/relationships/audio" Target="../media/highchime.wav"/><Relationship Id="rId16" Type="http://schemas.openxmlformats.org/officeDocument/2006/relationships/audio" Target="../media/highchime.wav"/><Relationship Id="rId17" Type="http://schemas.openxmlformats.org/officeDocument/2006/relationships/audio" Target="../media/bserie06.wav"/><Relationship Id="rId18" Type="http://schemas.openxmlformats.org/officeDocument/2006/relationships/audio" Target="../media/bserie06.wav"/><Relationship Id="rId19" Type="http://schemas.openxmlformats.org/officeDocument/2006/relationships/audio" Target="../media/zipby102.wav"/><Relationship Id="rId20" Type="http://schemas.openxmlformats.org/officeDocument/2006/relationships/audio" Target="../media/zipby102.wav"/><Relationship Id="rId21" Type="http://schemas.openxmlformats.org/officeDocument/2006/relationships/audio" Target="../media/zipby102.wav"/><Relationship Id="rId22" Type="http://schemas.openxmlformats.org/officeDocument/2006/relationships/audio" Target="../media/bserie06.wav"/><Relationship Id="rId23" Type="http://schemas.openxmlformats.org/officeDocument/2006/relationships/audio" Target="../media/zipby102.wav"/><Relationship Id="rId24" Type="http://schemas.openxmlformats.org/officeDocument/2006/relationships/audio" Target="../media/zipby102.wav"/><Relationship Id="rId25" Type="http://schemas.openxmlformats.org/officeDocument/2006/relationships/audio" Target="../media/zipby102.wav"/><Relationship Id="rId26" Type="http://schemas.openxmlformats.org/officeDocument/2006/relationships/audio" Target="../media/bserie06.wav"/><Relationship Id="rId27" Type="http://schemas.openxmlformats.org/officeDocument/2006/relationships/audio" Target="../media/zipby102.wav"/><Relationship Id="rId28" Type="http://schemas.openxmlformats.org/officeDocument/2006/relationships/audio" Target="../media/zipby102.wav"/><Relationship Id="rId29" Type="http://schemas.openxmlformats.org/officeDocument/2006/relationships/audio" Target="../media/bserie06.wav"/><Relationship Id="rId30" Type="http://schemas.openxmlformats.org/officeDocument/2006/relationships/audio" Target="../media/byipee04.wav"/><Relationship Id="rId3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7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Volume: Prisms and Cylin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457200" y="1676160"/>
            <a:ext cx="3048120" cy="2867760"/>
            <a:chOff x="457200" y="1676160"/>
            <a:chExt cx="3048120" cy="2867760"/>
          </a:xfrm>
        </p:grpSpPr>
        <p:sp>
          <p:nvSpPr>
            <p:cNvPr id="44" name=""/>
            <p:cNvSpPr/>
            <p:nvPr/>
          </p:nvSpPr>
          <p:spPr>
            <a:xfrm>
              <a:off x="457200" y="3962520"/>
              <a:ext cx="3048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rism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990720" y="1676160"/>
              <a:ext cx="1828800" cy="2210040"/>
              <a:chOff x="990720" y="1676160"/>
              <a:chExt cx="1828800" cy="2210040"/>
            </a:xfrm>
          </p:grpSpPr>
          <p:sp>
            <p:nvSpPr>
              <p:cNvPr id="46" name=""/>
              <p:cNvSpPr/>
              <p:nvPr/>
            </p:nvSpPr>
            <p:spPr>
              <a:xfrm>
                <a:off x="2362320" y="1676520"/>
                <a:ext cx="457200" cy="1904760"/>
              </a:xfrm>
              <a:custGeom>
                <a:avLst/>
                <a:gdLst/>
                <a:ahLst/>
                <a:rect l="l" t="t" r="r" b="b"/>
                <a:pathLst>
                  <a:path w="288" h="1200">
                    <a:moveTo>
                      <a:pt x="0" y="0"/>
                    </a:moveTo>
                    <a:lnTo>
                      <a:pt x="288" y="192"/>
                    </a:lnTo>
                    <a:lnTo>
                      <a:pt x="288" y="1200"/>
                    </a:lnTo>
                    <a:lnTo>
                      <a:pt x="0" y="10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ffcc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90720" y="3276720"/>
                <a:ext cx="1828800" cy="609480"/>
              </a:xfrm>
              <a:prstGeom prst="hexagon">
                <a:avLst>
                  <a:gd name="adj" fmla="val 75015"/>
                  <a:gd name="vf" fmla="val 115470"/>
                </a:avLst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990720" y="1676520"/>
                <a:ext cx="1828800" cy="609480"/>
              </a:xfrm>
              <a:prstGeom prst="hexagon">
                <a:avLst>
                  <a:gd name="adj" fmla="val 75015"/>
                  <a:gd name="vf" fmla="val 115470"/>
                </a:avLst>
              </a:prstGeom>
              <a:solidFill>
                <a:srgbClr val="cc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flipH="1" rot="10800000">
                <a:off x="990720" y="1676160"/>
                <a:ext cx="457200" cy="1904760"/>
              </a:xfrm>
              <a:custGeom>
                <a:avLst/>
                <a:gdLst/>
                <a:ahLst/>
                <a:rect l="l" t="t" r="r" b="b"/>
                <a:pathLst>
                  <a:path w="288" h="1200">
                    <a:moveTo>
                      <a:pt x="0" y="0"/>
                    </a:moveTo>
                    <a:lnTo>
                      <a:pt x="288" y="192"/>
                    </a:lnTo>
                    <a:lnTo>
                      <a:pt x="288" y="1200"/>
                    </a:lnTo>
                    <a:lnTo>
                      <a:pt x="0" y="10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ffcc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47920" y="1676520"/>
                <a:ext cx="914400" cy="16002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990720" y="1981080"/>
                <a:ext cx="457200" cy="1905120"/>
              </a:xfrm>
              <a:custGeom>
                <a:avLst/>
                <a:gdLst/>
                <a:ahLst/>
                <a:rect l="l" t="t" r="r" b="b"/>
                <a:pathLst>
                  <a:path w="288" h="1200">
                    <a:moveTo>
                      <a:pt x="0" y="0"/>
                    </a:moveTo>
                    <a:lnTo>
                      <a:pt x="288" y="192"/>
                    </a:lnTo>
                    <a:lnTo>
                      <a:pt x="288" y="1200"/>
                    </a:lnTo>
                    <a:lnTo>
                      <a:pt x="0" y="10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ffcc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447920" y="2286000"/>
                <a:ext cx="914400" cy="16002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" name=""/>
          <p:cNvSpPr/>
          <p:nvPr/>
        </p:nvSpPr>
        <p:spPr>
          <a:xfrm>
            <a:off x="3505320" y="1676520"/>
            <a:ext cx="46479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Volume of a Prism =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990720" y="2286000"/>
            <a:ext cx="5715000" cy="1600200"/>
            <a:chOff x="990720" y="2286000"/>
            <a:chExt cx="5715000" cy="1600200"/>
          </a:xfrm>
        </p:grpSpPr>
        <p:sp>
          <p:nvSpPr>
            <p:cNvPr id="55" name=""/>
            <p:cNvSpPr/>
            <p:nvPr/>
          </p:nvSpPr>
          <p:spPr>
            <a:xfrm>
              <a:off x="990720" y="3276720"/>
              <a:ext cx="1828800" cy="609480"/>
            </a:xfrm>
            <a:custGeom>
              <a:avLst/>
              <a:gdLst/>
              <a:ahLst/>
              <a:rect l="l" t="t" r="r" b="b"/>
              <a:pathLst>
                <a:path w="1152" h="384">
                  <a:moveTo>
                    <a:pt x="0" y="192"/>
                  </a:moveTo>
                  <a:lnTo>
                    <a:pt x="288" y="0"/>
                  </a:lnTo>
                  <a:lnTo>
                    <a:pt x="864" y="0"/>
                  </a:lnTo>
                  <a:lnTo>
                    <a:pt x="1152" y="192"/>
                  </a:lnTo>
                  <a:lnTo>
                    <a:pt x="864" y="384"/>
                  </a:lnTo>
                  <a:lnTo>
                    <a:pt x="288" y="384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276720" y="2286000"/>
              <a:ext cx="34290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6600"/>
                  </a:solidFill>
                  <a:latin typeface="Times New Roman"/>
                </a:rPr>
                <a:t>Area of the Base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7" name=""/>
          <p:cNvGraphicFramePr/>
          <p:nvPr/>
        </p:nvGraphicFramePr>
        <p:xfrm>
          <a:off x="6400800" y="2286000"/>
          <a:ext cx="609480" cy="60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2286000"/>
                    <a:ext cx="60948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2819520" y="1980720"/>
            <a:ext cx="5638680" cy="1600200"/>
            <a:chOff x="2819520" y="1980720"/>
            <a:chExt cx="5638680" cy="1600200"/>
          </a:xfrm>
        </p:grpSpPr>
        <p:sp>
          <p:nvSpPr>
            <p:cNvPr id="60" name=""/>
            <p:cNvSpPr/>
            <p:nvPr/>
          </p:nvSpPr>
          <p:spPr>
            <a:xfrm>
              <a:off x="6553080" y="2286000"/>
              <a:ext cx="190512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3333cc"/>
                  </a:solidFill>
                  <a:latin typeface="Times New Roman"/>
                </a:rPr>
                <a:t>    </a:t>
              </a:r>
              <a:r>
                <a:rPr b="1" lang="en-US" sz="3400" spc="-1" strike="noStrike">
                  <a:solidFill>
                    <a:srgbClr val="3333cc"/>
                  </a:solidFill>
                  <a:latin typeface="Times New Roman"/>
                </a:rPr>
                <a:t>Height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2819520" y="1980720"/>
              <a:ext cx="0" cy="16002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819520" y="2514600"/>
              <a:ext cx="380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ionroar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ionroar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40  10 – 7 #1 – 7, 8 – 16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71928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volume of each prism or cylinder to the nearest cubic unit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91960" y="1749600"/>
            <a:ext cx="59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698920" y="3247920"/>
            <a:ext cx="942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1 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900000" y="1960560"/>
            <a:ext cx="1857600" cy="3033720"/>
          </a:xfrm>
          <a:prstGeom prst="can">
            <a:avLst>
              <a:gd name="adj" fmla="val 25000"/>
            </a:avLst>
          </a:prstGeom>
          <a:solidFill>
            <a:srgbClr val="cc99ff">
              <a:alpha val="4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843200" y="2322360"/>
            <a:ext cx="912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785960" y="1913040"/>
            <a:ext cx="1101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9 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4379760" y="1614600"/>
          <a:ext cx="2764080" cy="87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79760" y="1614600"/>
                    <a:ext cx="2764080" cy="87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3459240" y="2376360"/>
          <a:ext cx="5263920" cy="115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59240" y="2376360"/>
                    <a:ext cx="5263920" cy="11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"/>
          <p:cNvSpPr/>
          <p:nvPr/>
        </p:nvSpPr>
        <p:spPr>
          <a:xfrm>
            <a:off x="4913280" y="260496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513480" y="260496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537320" y="2604960"/>
            <a:ext cx="9115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3403440" y="3443400"/>
          <a:ext cx="5319720" cy="995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03440" y="3443400"/>
                    <a:ext cx="531972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4836960" y="351936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437160" y="351936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521480" y="351936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3902040" y="4281480"/>
          <a:ext cx="4322880" cy="995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02040" y="4281480"/>
                    <a:ext cx="432288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"/>
          <p:cNvSpPr/>
          <p:nvPr/>
        </p:nvSpPr>
        <p:spPr>
          <a:xfrm>
            <a:off x="5370480" y="435780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778800" y="4357800"/>
            <a:ext cx="1360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1701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3846600" y="5348160"/>
          <a:ext cx="1218960" cy="655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46600" y="5348160"/>
                    <a:ext cx="1218960" cy="6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>
            <a:off x="5065560" y="5272200"/>
            <a:ext cx="3124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Times New Roman"/>
              </a:rPr>
              <a:t>5,341 in</a:t>
            </a:r>
            <a:r>
              <a:rPr b="1" lang="en-US" sz="3600" spc="-1" strike="noStrike" baseline="60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4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914400" y="4397400"/>
            <a:ext cx="1814400" cy="5810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5500800" y="476280"/>
            <a:ext cx="3643200" cy="36432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40  10 – 7 #1 – 7, 8 – 16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719280"/>
            <a:ext cx="624204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7.  Wood for a fireplace is often sold by the cord. A cord is 8 ft by 4 ft by 4 ft. How many cubic feet are in a cord of wood?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276120" y="2498760"/>
            <a:ext cx="4884840" cy="3583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5065560" y="4048200"/>
                <a:ext cx="379584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ℓ</m:t>
                    </m:r>
                    <m:r>
                      <m:t xml:space="preserve">⋅</m:t>
                    </m:r>
                    <m:r>
                      <m:t xml:space="preserve">w</m:t>
                    </m:r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6229440" y="4915080"/>
                <a:ext cx="291456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1" name=""/>
          <p:cNvSpPr/>
          <p:nvPr/>
        </p:nvSpPr>
        <p:spPr>
          <a:xfrm>
            <a:off x="6615000" y="4957920"/>
            <a:ext cx="532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462800" y="4929120"/>
            <a:ext cx="5335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391600" y="4943520"/>
            <a:ext cx="4572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5738760"/>
            <a:ext cx="28018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33cc"/>
                </a:solidFill>
                <a:latin typeface="Times New Roman"/>
              </a:rPr>
              <a:t>= 128  ft</a:t>
            </a:r>
            <a:r>
              <a:rPr b="1" lang="en-US" sz="4600" spc="-1" strike="noStrike" baseline="30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5137200" y="4991040"/>
                <a:ext cx="1434960" cy="6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500"/>
                            </p:stCondLst>
                            <p:childTnLst>
                              <p:par>
                                <p:cTn id="7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40  10 – 7 #1 – 7, 8 – 16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7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4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Volume: Prisms and Cylin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29528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nd the volume of the following pris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04920" y="1828800"/>
            <a:ext cx="4343400" cy="3461760"/>
            <a:chOff x="304920" y="1828800"/>
            <a:chExt cx="4343400" cy="3461760"/>
          </a:xfrm>
        </p:grpSpPr>
        <p:sp>
          <p:nvSpPr>
            <p:cNvPr id="67" name=""/>
            <p:cNvSpPr/>
            <p:nvPr/>
          </p:nvSpPr>
          <p:spPr>
            <a:xfrm>
              <a:off x="1219320" y="4038480"/>
              <a:ext cx="3429000" cy="838440"/>
            </a:xfrm>
            <a:custGeom>
              <a:avLst/>
              <a:gdLst/>
              <a:ahLst/>
              <a:rect l="l" t="t" r="r" b="b"/>
              <a:pathLst>
                <a:path w="2160" h="528">
                  <a:moveTo>
                    <a:pt x="0" y="528"/>
                  </a:moveTo>
                  <a:lnTo>
                    <a:pt x="1488" y="0"/>
                  </a:lnTo>
                  <a:lnTo>
                    <a:pt x="2160" y="0"/>
                  </a:lnTo>
                  <a:lnTo>
                    <a:pt x="672" y="528"/>
                  </a:lnTo>
                  <a:lnTo>
                    <a:pt x="0" y="528"/>
                  </a:lnTo>
                  <a:close/>
                </a:path>
              </a:pathLst>
            </a:custGeom>
            <a:solidFill>
              <a:srgbClr val="00cc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19320" y="2666880"/>
              <a:ext cx="1066680" cy="2210040"/>
            </a:xfrm>
            <a:prstGeom prst="rtTriangle">
              <a:avLst/>
            </a:prstGeom>
            <a:solidFill>
              <a:srgbClr val="00ccff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81280" y="1828800"/>
              <a:ext cx="1067040" cy="2209680"/>
            </a:xfrm>
            <a:prstGeom prst="rtTriangle">
              <a:avLst/>
            </a:prstGeom>
            <a:solidFill>
              <a:srgbClr val="00ccff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219320" y="1828800"/>
              <a:ext cx="2361960" cy="3048120"/>
            </a:xfrm>
            <a:custGeom>
              <a:avLst/>
              <a:gdLst/>
              <a:ahLst/>
              <a:rect l="l" t="t" r="r" b="b"/>
              <a:pathLst>
                <a:path w="1488" h="1920">
                  <a:moveTo>
                    <a:pt x="0" y="528"/>
                  </a:moveTo>
                  <a:lnTo>
                    <a:pt x="1488" y="0"/>
                  </a:lnTo>
                  <a:lnTo>
                    <a:pt x="1488" y="1392"/>
                  </a:lnTo>
                  <a:lnTo>
                    <a:pt x="0" y="1920"/>
                  </a:lnTo>
                  <a:lnTo>
                    <a:pt x="0" y="528"/>
                  </a:lnTo>
                  <a:close/>
                </a:path>
              </a:pathLst>
            </a:custGeom>
            <a:solidFill>
              <a:srgbClr val="00ccff">
                <a:alpha val="50000"/>
              </a:srgbClr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219320" y="1828800"/>
              <a:ext cx="3429000" cy="3048120"/>
            </a:xfrm>
            <a:custGeom>
              <a:avLst/>
              <a:gdLst/>
              <a:ahLst/>
              <a:rect l="l" t="t" r="r" b="b"/>
              <a:pathLst>
                <a:path w="2160" h="1920">
                  <a:moveTo>
                    <a:pt x="0" y="528"/>
                  </a:moveTo>
                  <a:lnTo>
                    <a:pt x="672" y="1920"/>
                  </a:lnTo>
                  <a:lnTo>
                    <a:pt x="2160" y="1392"/>
                  </a:lnTo>
                  <a:lnTo>
                    <a:pt x="1488" y="0"/>
                  </a:lnTo>
                  <a:lnTo>
                    <a:pt x="0" y="528"/>
                  </a:lnTo>
                  <a:close/>
                </a:path>
              </a:pathLst>
            </a:custGeom>
            <a:solidFill>
              <a:srgbClr val="00ccff">
                <a:alpha val="50000"/>
              </a:srgbClr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09480" y="1981080"/>
              <a:ext cx="762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920" y="3429000"/>
              <a:ext cx="12189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14 in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371600" y="4800600"/>
              <a:ext cx="12193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9 in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rot="20400000">
              <a:off x="3048120" y="4343040"/>
              <a:ext cx="12189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20 in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6" name=""/>
          <p:cNvGraphicFramePr/>
          <p:nvPr/>
        </p:nvGraphicFramePr>
        <p:xfrm>
          <a:off x="5638680" y="1981080"/>
          <a:ext cx="2156040" cy="71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981080"/>
                    <a:ext cx="215604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80880" y="5181480"/>
          <a:ext cx="1922760" cy="131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5181480"/>
                    <a:ext cx="1922760" cy="13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5410080" y="2593800"/>
          <a:ext cx="2743200" cy="1390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10080" y="2593800"/>
                    <a:ext cx="2743200" cy="13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4572000" y="3733920"/>
          <a:ext cx="4371840" cy="1390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3733920"/>
                    <a:ext cx="4371840" cy="13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6172200" y="4114800"/>
            <a:ext cx="6094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934320" y="4114800"/>
            <a:ext cx="914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Times New Roman"/>
              </a:rPr>
              <a:t>14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924680" y="4114800"/>
            <a:ext cx="914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0" y="5029200"/>
          <a:ext cx="3379680" cy="811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0" y="5029200"/>
                    <a:ext cx="337968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5715000" y="5029200"/>
            <a:ext cx="914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05720" y="5029200"/>
            <a:ext cx="1066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Times New Roman"/>
              </a:rPr>
              <a:t>126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495680" y="6019920"/>
          <a:ext cx="1143000" cy="617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495680" y="6019920"/>
                    <a:ext cx="1143000" cy="61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5715000" y="5943600"/>
            <a:ext cx="23623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Times New Roman"/>
              </a:rPr>
              <a:t>1260 in</a:t>
            </a:r>
            <a:r>
              <a:rPr b="1" lang="en-US" sz="3600" spc="-1" strike="noStrike" baseline="60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46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oldcar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fastsnap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oldcar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oldcar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oldcar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oldcar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7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5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Volume: Prisms and Cylin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971800" y="1752480"/>
            <a:ext cx="3200400" cy="18288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14600" y="3886200"/>
            <a:ext cx="46483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Volume of a Cylinder =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669040" y="3124080"/>
            <a:ext cx="3503160" cy="1907280"/>
            <a:chOff x="2669040" y="3124080"/>
            <a:chExt cx="3503160" cy="1907280"/>
          </a:xfrm>
        </p:grpSpPr>
        <p:sp>
          <p:nvSpPr>
            <p:cNvPr id="99" name=""/>
            <p:cNvSpPr/>
            <p:nvPr/>
          </p:nvSpPr>
          <p:spPr>
            <a:xfrm>
              <a:off x="2971800" y="3124080"/>
              <a:ext cx="3200400" cy="45720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669040" y="4419720"/>
              <a:ext cx="32151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6600"/>
                  </a:solidFill>
                  <a:latin typeface="Times New Roman"/>
                </a:rPr>
                <a:t>Area of the Base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1" name=""/>
          <p:cNvGraphicFramePr/>
          <p:nvPr/>
        </p:nvGraphicFramePr>
        <p:xfrm>
          <a:off x="5715000" y="4419720"/>
          <a:ext cx="609480" cy="60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4419720"/>
                    <a:ext cx="60948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3" name=""/>
          <p:cNvGrpSpPr/>
          <p:nvPr/>
        </p:nvGrpSpPr>
        <p:grpSpPr>
          <a:xfrm>
            <a:off x="6172200" y="1981080"/>
            <a:ext cx="1430280" cy="3050280"/>
            <a:chOff x="6172200" y="1981080"/>
            <a:chExt cx="1430280" cy="3050280"/>
          </a:xfrm>
        </p:grpSpPr>
        <p:sp>
          <p:nvSpPr>
            <p:cNvPr id="104" name=""/>
            <p:cNvSpPr/>
            <p:nvPr/>
          </p:nvSpPr>
          <p:spPr>
            <a:xfrm>
              <a:off x="6175080" y="4419720"/>
              <a:ext cx="14274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3333cc"/>
                  </a:solidFill>
                  <a:latin typeface="Times New Roman"/>
                </a:rPr>
                <a:t>Height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48520" y="236232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33cc"/>
                  </a:solidFill>
                  <a:latin typeface="Times New Roman"/>
                </a:rPr>
                <a:t>h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172200" y="1981080"/>
              <a:ext cx="0" cy="1371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7" name=""/>
          <p:cNvGraphicFramePr/>
          <p:nvPr/>
        </p:nvGraphicFramePr>
        <p:xfrm>
          <a:off x="4876920" y="4876920"/>
          <a:ext cx="1218960" cy="87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4876920"/>
                    <a:ext cx="1218960" cy="87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5867280" y="4952880"/>
          <a:ext cx="547920" cy="712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952880"/>
                    <a:ext cx="54792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7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Volume: Prisms and Cylin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29528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nd the volume of the following cylind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28600" y="1905120"/>
            <a:ext cx="4267080" cy="3657600"/>
            <a:chOff x="228600" y="1905120"/>
            <a:chExt cx="4267080" cy="3657600"/>
          </a:xfrm>
        </p:grpSpPr>
        <p:sp>
          <p:nvSpPr>
            <p:cNvPr id="115" name=""/>
            <p:cNvSpPr/>
            <p:nvPr/>
          </p:nvSpPr>
          <p:spPr>
            <a:xfrm>
              <a:off x="685800" y="1905120"/>
              <a:ext cx="2590920" cy="3657600"/>
            </a:xfrm>
            <a:prstGeom prst="can">
              <a:avLst>
                <a:gd name="adj" fmla="val 25000"/>
              </a:avLst>
            </a:prstGeom>
            <a:solidFill>
              <a:srgbClr val="ccff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85800" y="4648320"/>
              <a:ext cx="2590920" cy="9144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981080" y="5105520"/>
              <a:ext cx="129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8600" y="1981080"/>
              <a:ext cx="838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33720" y="4648320"/>
              <a:ext cx="990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5 cm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200400" y="3505320"/>
              <a:ext cx="1295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11 cm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1" name=""/>
          <p:cNvGraphicFramePr/>
          <p:nvPr/>
        </p:nvGraphicFramePr>
        <p:xfrm>
          <a:off x="4800600" y="1905120"/>
          <a:ext cx="2763720" cy="87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905120"/>
                    <a:ext cx="2763720" cy="87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3879720" y="2666880"/>
          <a:ext cx="5264280" cy="115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79720" y="2666880"/>
                    <a:ext cx="5264280" cy="11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5334120" y="289548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934320" y="289548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001000" y="289548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824280" y="3733920"/>
          <a:ext cx="5319720" cy="995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24280" y="3733920"/>
                    <a:ext cx="531972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5257800" y="380988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0" y="380988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001000" y="380988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322880" y="4572000"/>
          <a:ext cx="4322520" cy="995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322880" y="4572000"/>
                    <a:ext cx="432252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5791320" y="464832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315200" y="464832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275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267080" y="5638680"/>
          <a:ext cx="1219320" cy="655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67080" y="5638680"/>
                    <a:ext cx="1219320" cy="6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5486400" y="5562720"/>
            <a:ext cx="3124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Times New Roman"/>
              </a:rPr>
              <a:t>863.5 in</a:t>
            </a:r>
            <a:r>
              <a:rPr b="1" lang="en-US" sz="3600" spc="-1" strike="noStrike" baseline="60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4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40  10 – 7 #1 – 7, 8 – 16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71928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volume of each prism or cylinder to the nearest cubic unit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514600" y="4191120"/>
                <a:ext cx="379584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ℓ</m:t>
                    </m:r>
                    <m:r>
                      <m:t xml:space="preserve">⋅</m:t>
                    </m:r>
                    <m:r>
                      <m:t xml:space="preserve">w</m:t>
                    </m:r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581280" y="5029200"/>
                <a:ext cx="340200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3962520" y="5029200"/>
            <a:ext cx="5331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29200" y="5029200"/>
            <a:ext cx="5335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172200" y="5029200"/>
            <a:ext cx="4572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819520" y="5867280"/>
            <a:ext cx="4267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33cc"/>
                </a:solidFill>
                <a:latin typeface="Times New Roman"/>
              </a:rPr>
              <a:t>= 24  cubic units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470320" y="5105520"/>
                <a:ext cx="143496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 flipH="1">
            <a:off x="1600200" y="1905120"/>
            <a:ext cx="4038480" cy="1981080"/>
          </a:xfrm>
          <a:prstGeom prst="cube">
            <a:avLst>
              <a:gd name="adj" fmla="val 45740"/>
            </a:avLst>
          </a:prstGeom>
          <a:solidFill>
            <a:srgbClr val="ffcc99">
              <a:alpha val="6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14600" y="3352680"/>
            <a:ext cx="3124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08240" y="2496960"/>
            <a:ext cx="3124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81360" y="2184480"/>
            <a:ext cx="3124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192400" y="2481120"/>
            <a:ext cx="0" cy="1074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79560" y="2184480"/>
            <a:ext cx="0" cy="10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064040" y="2816280"/>
            <a:ext cx="0" cy="10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86080" y="2809800"/>
            <a:ext cx="0" cy="1074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875120" y="2817720"/>
            <a:ext cx="0" cy="1074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1582560" y="2423880"/>
            <a:ext cx="928800" cy="92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2359080" y="1879560"/>
            <a:ext cx="91440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135240" y="1889280"/>
            <a:ext cx="91440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54600" y="1897200"/>
            <a:ext cx="91440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71560" y="1857240"/>
            <a:ext cx="593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700"/>
                            </p:stCondLst>
                            <p:childTnLst>
                              <p:par>
                                <p:cTn id="247" nodeType="after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24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4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40  10 – 7 #1 – 7, 8 – 16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71928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volume of each prism or cylinder to the nearest cubic unit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03440" y="1851120"/>
            <a:ext cx="1930320" cy="609480"/>
          </a:xfrm>
          <a:prstGeom prst="triangle">
            <a:avLst>
              <a:gd name="adj" fmla="val 50000"/>
            </a:avLst>
          </a:prstGeom>
          <a:solidFill>
            <a:srgbClr val="ccffcc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1843200"/>
            <a:ext cx="2859120" cy="1582560"/>
          </a:xfrm>
          <a:custGeom>
            <a:avLst/>
            <a:gdLst/>
            <a:ahLst/>
            <a:rect l="l" t="t" r="r" b="b"/>
            <a:pathLst>
              <a:path w="1801" h="997">
                <a:moveTo>
                  <a:pt x="0" y="997"/>
                </a:moveTo>
                <a:lnTo>
                  <a:pt x="1179" y="393"/>
                </a:lnTo>
                <a:lnTo>
                  <a:pt x="1801" y="0"/>
                </a:lnTo>
                <a:lnTo>
                  <a:pt x="640" y="603"/>
                </a:lnTo>
                <a:lnTo>
                  <a:pt x="0" y="997"/>
                </a:lnTo>
                <a:close/>
              </a:path>
            </a:pathLst>
          </a:custGeom>
          <a:solidFill>
            <a:srgbClr val="ccffcc">
              <a:alpha val="60000"/>
            </a:srgbClr>
          </a:solidFill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52320" y="2816280"/>
            <a:ext cx="1930680" cy="609480"/>
          </a:xfrm>
          <a:prstGeom prst="triangle">
            <a:avLst>
              <a:gd name="adj" fmla="val 50000"/>
            </a:avLst>
          </a:prstGeom>
          <a:solidFill>
            <a:srgbClr val="ccffcc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52320" y="2452680"/>
            <a:ext cx="3802320" cy="973080"/>
          </a:xfrm>
          <a:custGeom>
            <a:avLst/>
            <a:gdLst/>
            <a:ahLst/>
            <a:rect l="l" t="t" r="r" b="b"/>
            <a:pathLst>
              <a:path w="2386" h="613">
                <a:moveTo>
                  <a:pt x="0" y="613"/>
                </a:moveTo>
                <a:lnTo>
                  <a:pt x="1170" y="0"/>
                </a:lnTo>
                <a:lnTo>
                  <a:pt x="2386" y="0"/>
                </a:lnTo>
                <a:lnTo>
                  <a:pt x="1216" y="613"/>
                </a:lnTo>
                <a:lnTo>
                  <a:pt x="0" y="613"/>
                </a:lnTo>
                <a:close/>
              </a:path>
            </a:pathLst>
          </a:custGeom>
          <a:solidFill>
            <a:srgbClr val="ccffcc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11360" y="1828800"/>
            <a:ext cx="2828880" cy="1596960"/>
          </a:xfrm>
          <a:custGeom>
            <a:avLst/>
            <a:gdLst/>
            <a:ahLst/>
            <a:rect l="l" t="t" r="r" b="b"/>
            <a:pathLst>
              <a:path w="1792" h="1006">
                <a:moveTo>
                  <a:pt x="0" y="603"/>
                </a:moveTo>
                <a:lnTo>
                  <a:pt x="1180" y="0"/>
                </a:lnTo>
                <a:lnTo>
                  <a:pt x="1792" y="393"/>
                </a:lnTo>
                <a:lnTo>
                  <a:pt x="631" y="1006"/>
                </a:lnTo>
                <a:lnTo>
                  <a:pt x="0" y="603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71560" y="1857240"/>
            <a:ext cx="593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5003640" y="2100240"/>
          <a:ext cx="2743200" cy="139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3640" y="2100240"/>
                    <a:ext cx="2743200" cy="13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4165560" y="3240000"/>
          <a:ext cx="4371840" cy="1390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65560" y="3240000"/>
                    <a:ext cx="4371840" cy="13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5765760" y="3621240"/>
            <a:ext cx="6094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643800" y="3592440"/>
            <a:ext cx="914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91400" y="3592440"/>
            <a:ext cx="914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165560" y="4535640"/>
          <a:ext cx="3379680" cy="811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65560" y="4535640"/>
                    <a:ext cx="337968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5410080" y="4521240"/>
            <a:ext cx="914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342120" y="4521240"/>
            <a:ext cx="1066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Times New Roman"/>
              </a:rPr>
              <a:t>27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089240" y="5526000"/>
          <a:ext cx="1143000" cy="617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89240" y="5526000"/>
                    <a:ext cx="114300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5308560" y="5450040"/>
            <a:ext cx="23623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Times New Roman"/>
              </a:rPr>
              <a:t>54 in</a:t>
            </a:r>
            <a:r>
              <a:rPr b="1" lang="en-US" sz="3600" spc="-1" strike="noStrike" baseline="60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46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92040" y="2685960"/>
            <a:ext cx="943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 c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51200" y="2708280"/>
            <a:ext cx="942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4 c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351240" y="2846520"/>
            <a:ext cx="942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9 c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oldcar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oldcar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oldcar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oldcar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40  10 – 7 #1 – 7, 8 – 16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71928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volume of each prism or cylinder to the nearest cubic unit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0440" y="1798560"/>
            <a:ext cx="593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422360" y="3557520"/>
            <a:ext cx="1101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2 c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44760" y="3230640"/>
            <a:ext cx="943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5 c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613320" y="2295360"/>
            <a:ext cx="942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8 c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2600" y="1930320"/>
            <a:ext cx="3105000" cy="1668600"/>
          </a:xfrm>
          <a:prstGeom prst="cube">
            <a:avLst>
              <a:gd name="adj" fmla="val 24263"/>
            </a:avLst>
          </a:prstGeom>
          <a:solidFill>
            <a:srgbClr val="ccecff">
              <a:alpha val="6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87480" y="1930320"/>
            <a:ext cx="0" cy="1278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987120" y="3192480"/>
            <a:ext cx="26701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566640" y="3192120"/>
            <a:ext cx="420840" cy="406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906640" y="3843360"/>
                <a:ext cx="379584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ℓ</m:t>
                    </m:r>
                    <m:r>
                      <m:t xml:space="preserve">⋅</m:t>
                    </m:r>
                    <m:r>
                      <m:t xml:space="preserve">w</m:t>
                    </m:r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3973680" y="4681440"/>
                <a:ext cx="340200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0" name=""/>
          <p:cNvSpPr/>
          <p:nvPr/>
        </p:nvSpPr>
        <p:spPr>
          <a:xfrm>
            <a:off x="4210200" y="4681440"/>
            <a:ext cx="8222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21240" y="4681440"/>
            <a:ext cx="5335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564240" y="4681440"/>
            <a:ext cx="4572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11560" y="5519880"/>
            <a:ext cx="4267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33cc"/>
                </a:solidFill>
                <a:latin typeface="Times New Roman"/>
              </a:rPr>
              <a:t>= 480  cm</a:t>
            </a:r>
            <a:r>
              <a:rPr b="1" lang="en-US" sz="4600" spc="-1" strike="noStrike" baseline="30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2862360" y="4757760"/>
                <a:ext cx="143496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40  10 – 7 #1 – 7, 8 – 16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71928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volume of each prism or cylinder to the nearest cubic unit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91960" y="1749600"/>
            <a:ext cx="59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597040" y="2855880"/>
            <a:ext cx="943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8 f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70040" y="1960560"/>
            <a:ext cx="1987560" cy="2249640"/>
          </a:xfrm>
          <a:prstGeom prst="can">
            <a:avLst>
              <a:gd name="adj" fmla="val 25000"/>
            </a:avLst>
          </a:prstGeom>
          <a:solidFill>
            <a:srgbClr val="cc99ff">
              <a:alpha val="4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70040" y="2235240"/>
            <a:ext cx="1987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76480" y="1839960"/>
            <a:ext cx="1101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0 f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4379760" y="1614600"/>
          <a:ext cx="2764080" cy="87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79760" y="1614600"/>
                    <a:ext cx="2764080" cy="87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3459240" y="2376360"/>
          <a:ext cx="5263920" cy="115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59240" y="2376360"/>
                    <a:ext cx="5263920" cy="11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4913280" y="260496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513480" y="260496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82040" y="2604960"/>
            <a:ext cx="9111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3403440" y="3443400"/>
          <a:ext cx="5319720" cy="995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03440" y="3443400"/>
                    <a:ext cx="531972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4836960" y="351936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437160" y="351936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580160" y="351936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3902040" y="4281480"/>
          <a:ext cx="4322880" cy="995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02040" y="4281480"/>
                    <a:ext cx="432288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"/>
          <p:cNvSpPr/>
          <p:nvPr/>
        </p:nvSpPr>
        <p:spPr>
          <a:xfrm>
            <a:off x="5370480" y="435780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94360" y="435780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3846600" y="5348160"/>
          <a:ext cx="1218960" cy="655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46600" y="5348160"/>
                    <a:ext cx="1218960" cy="6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"/>
          <p:cNvSpPr/>
          <p:nvPr/>
        </p:nvSpPr>
        <p:spPr>
          <a:xfrm>
            <a:off x="5065560" y="5272200"/>
            <a:ext cx="3124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Times New Roman"/>
              </a:rPr>
              <a:t>628 ft</a:t>
            </a:r>
            <a:r>
              <a:rPr b="1" lang="en-US" sz="3600" spc="-1" strike="noStrike" baseline="60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4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 rot="16200000">
            <a:off x="1170000" y="1501920"/>
            <a:ext cx="1550880" cy="3062160"/>
          </a:xfrm>
          <a:prstGeom prst="can">
            <a:avLst>
              <a:gd name="adj" fmla="val 25000"/>
            </a:avLst>
          </a:prstGeom>
          <a:solidFill>
            <a:srgbClr val="ffcc99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40  10 – 7 #1 – 7, 8 – 16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71928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volume of each prism or cylinder to the nearest cubic unit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91960" y="1749600"/>
            <a:ext cx="59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11080" y="2784600"/>
            <a:ext cx="943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8 c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436760" y="3740040"/>
            <a:ext cx="1101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2 c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4379760" y="1614600"/>
          <a:ext cx="2764080" cy="87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79760" y="1614600"/>
                    <a:ext cx="2764080" cy="87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3459240" y="2376360"/>
          <a:ext cx="5263920" cy="115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59240" y="2376360"/>
                    <a:ext cx="5263920" cy="11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"/>
          <p:cNvSpPr/>
          <p:nvPr/>
        </p:nvSpPr>
        <p:spPr>
          <a:xfrm>
            <a:off x="4913280" y="260496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513480" y="260496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35880" y="2604960"/>
            <a:ext cx="9111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3403440" y="3443400"/>
          <a:ext cx="5319720" cy="995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03440" y="3443400"/>
                    <a:ext cx="531972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4836960" y="351936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437160" y="351936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493040" y="351936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3902040" y="4281480"/>
          <a:ext cx="4322880" cy="995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02040" y="4281480"/>
                    <a:ext cx="432288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5370480" y="435780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94360" y="435780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192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3846600" y="5348160"/>
          <a:ext cx="1218960" cy="655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46600" y="5348160"/>
                    <a:ext cx="1218960" cy="6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5065560" y="5272200"/>
            <a:ext cx="3124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Times New Roman"/>
              </a:rPr>
              <a:t>603 cm</a:t>
            </a:r>
            <a:r>
              <a:rPr b="1" lang="en-US" sz="3600" spc="-1" strike="noStrike" baseline="60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4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84520" y="2263680"/>
            <a:ext cx="798480" cy="15382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84080" y="2249640"/>
            <a:ext cx="0" cy="155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6T13:07:38Z</dcterms:created>
  <dc:creator>Don Helms</dc:creator>
  <dc:description/>
  <dc:language>en-US</dc:language>
  <cp:lastModifiedBy>damon.skelton</cp:lastModifiedBy>
  <dcterms:modified xsi:type="dcterms:W3CDTF">2004-03-23T15:02:56Z</dcterms:modified>
  <cp:revision>42</cp:revision>
  <dc:subject/>
  <dc:title>No Slide Title</dc:title>
</cp:coreProperties>
</file>